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0EB9-281E-474A-8EE9-BC534456E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EE94-AA88-427B-9136-BC3FDD2E0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B4A0-2EA9-4B31-82EC-8446C582E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1883-71E0-4695-802E-67B847877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F5E8-9A9D-4F29-8586-A473088EE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6C9A-B6AB-45F4-A59E-EB22C2EEC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938A-6CF4-40FE-A6F8-3B5E14536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2B1C-2FCF-437B-83EA-EDDA80868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9F58-60AC-4F6C-8BA6-B560B64D5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8C8A-1A85-4F4B-BFB4-5B38A495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76FD-D11F-4EEC-9C18-64BBF4E6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2D28-ECC8-47F1-94FF-9B53E13E8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20.gada 28.septemb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107F8-A27E-4921-A2AB-149F22D96219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1142640"/>
            <a:ext cx="7772400" cy="35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58ed5"/>
                </a:solidFill>
                <a:latin typeface="Calibri"/>
              </a:rPr>
              <a:t>E</a:t>
            </a:r>
            <a:r>
              <a:rPr b="1" lang="lv-LV" sz="5400" spc="-1" strike="noStrike">
                <a:solidFill>
                  <a:srgbClr val="558ed5"/>
                </a:solidFill>
                <a:latin typeface="Calibri"/>
              </a:rPr>
              <a:t>-</a:t>
            </a:r>
            <a:r>
              <a:rPr b="1" lang="en-US" sz="5400" spc="-1" strike="noStrike">
                <a:solidFill>
                  <a:srgbClr val="558ed5"/>
                </a:solidFill>
                <a:latin typeface="Calibri"/>
              </a:rPr>
              <a:t>mobilitātes</a:t>
            </a:r>
            <a:br>
              <a:rPr sz="5400"/>
            </a:br>
            <a:r>
              <a:rPr b="1" lang="lv-LV" sz="54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1" lang="en-US" sz="5400" spc="-1" strike="noStrike">
                <a:solidFill>
                  <a:srgbClr val="558ed5"/>
                </a:solidFill>
                <a:latin typeface="Calibri"/>
              </a:rPr>
              <a:t>jomas</a:t>
            </a:r>
            <a:r>
              <a:rPr b="1" lang="lv-LV" sz="54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1" lang="en-US" sz="5400" spc="-1" strike="noStrike">
                <a:solidFill>
                  <a:srgbClr val="558ed5"/>
                </a:solidFill>
                <a:latin typeface="Calibri"/>
              </a:rPr>
              <a:t>jaunumi</a:t>
            </a:r>
            <a:r>
              <a:rPr b="1" lang="lv-LV" sz="54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1" lang="en-US" sz="5400" spc="-1" strike="noStrike">
                <a:solidFill>
                  <a:srgbClr val="558ed5"/>
                </a:solidFill>
                <a:latin typeface="Calibri"/>
              </a:rPr>
              <a:t>Latvijā</a:t>
            </a:r>
            <a:br>
              <a:rPr sz="5400"/>
            </a:br>
            <a:r>
              <a:rPr b="1" lang="en-US" sz="5400" spc="-1" strike="noStrike">
                <a:solidFill>
                  <a:srgbClr val="558ed5"/>
                </a:solidFill>
                <a:latin typeface="Calibri"/>
              </a:rPr>
              <a:t> un</a:t>
            </a:r>
            <a:br>
              <a:rPr sz="5400"/>
            </a:br>
            <a:r>
              <a:rPr b="1" lang="en-US" sz="5400" spc="-1" strike="noStrike">
                <a:solidFill>
                  <a:srgbClr val="558ed5"/>
                </a:solidFill>
                <a:latin typeface="Calibri"/>
              </a:rPr>
              <a:t> ieskats NEKP 2030 </a:t>
            </a:r>
            <a:br>
              <a:rPr sz="32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aisnstūris 4"/>
          <p:cNvSpPr/>
          <p:nvPr/>
        </p:nvSpPr>
        <p:spPr>
          <a:xfrm>
            <a:off x="857160" y="4786200"/>
            <a:ext cx="757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Arnis Berg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biedrības “Bezizmešu mobilitātes atbalsta biedrība” </a:t>
            </a:r>
            <a:br>
              <a:rPr sz="2400"/>
            </a:b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valdes priekšsēdētāj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558ed5"/>
                </a:solidFill>
                <a:latin typeface="Calibri"/>
              </a:rPr>
              <a:t>ETL uzlāde daudzdzīvokļu māju iedzīvotāji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autas skaitīšana 2011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audzdzīvokļu mājās dzīvo 68,0%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ndividuālajās mājās – 28,3%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vīņu mājās un divu dzīvokļu mājās katrā – 1,1%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rindu mājās – 0,6%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edzīvojamās ēkās – 0,1%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Latvijas iedzīvotāj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DA645-F8D1-442D-AC27-1781A8884D23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atuma vietturis 3"/>
          <p:cNvSpPr/>
          <p:nvPr/>
        </p:nvSpPr>
        <p:spPr>
          <a:xfrm>
            <a:off x="457200" y="6356520"/>
            <a:ext cx="77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20.gada 28.septemb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558ed5"/>
                </a:solidFill>
                <a:latin typeface="Calibri"/>
              </a:rPr>
              <a:t>LBN 208-15 “Publiskas būv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30840">
              <a:lnSpc>
                <a:spcPts val="49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89.</a:t>
            </a:r>
            <a:r>
              <a:rPr b="0" lang="lv-LV" sz="32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 Publiskās ēkās ar vairāk nekā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lnSpc>
                <a:spcPts val="49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10 autostāvvietām paredz vismaz vienu elektrotransportlīdzekļu uzlādes punktu, kā arī katrai piektajai autostāvvietai paredz kanālus elektrības kabeļiem, lai, ja nepieciešams, varētu ierīkot elektrotransportlīdzekļu uzlādes punktus.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16E18-B70E-4A82-9B81-001606E2464C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Datuma vietturis 3"/>
          <p:cNvSpPr/>
          <p:nvPr/>
        </p:nvSpPr>
        <p:spPr>
          <a:xfrm>
            <a:off x="457200" y="6356520"/>
            <a:ext cx="77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20.gada 28.septemb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558ed5"/>
                </a:solidFill>
                <a:latin typeface="Calibri"/>
              </a:rPr>
              <a:t>LBN 211-15 “Dzīvojamās ēka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58.5. dzīvojamās ēkās ar vairāk nekā 10 autostāvvietām katrai autostāvvietai kanālus elektrības kabeļiem, lai, ja nepieciešams, varētu ierīkot elektrotransportlīdzekļu uzlādes punktus.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3F376-51B2-405B-A2E9-061031CB5C5A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atuma vietturis 3"/>
          <p:cNvSpPr/>
          <p:nvPr/>
        </p:nvSpPr>
        <p:spPr>
          <a:xfrm>
            <a:off x="457200" y="6356520"/>
            <a:ext cx="77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Datuma vietturis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20.gada 28.septemb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558ed5"/>
                </a:solidFill>
                <a:latin typeface="Calibri"/>
              </a:rPr>
              <a:t>Uzlādes pieslēgumu</a:t>
            </a:r>
            <a:br>
              <a:rPr sz="4400"/>
            </a:br>
            <a:r>
              <a:rPr b="0" lang="lv-LV" sz="44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1" lang="lv-LV" sz="4400" spc="-1" strike="noStrike">
                <a:solidFill>
                  <a:srgbClr val="558ed5"/>
                </a:solidFill>
                <a:latin typeface="Calibri"/>
              </a:rPr>
              <a:t>balansējošais slēgums</a:t>
            </a:r>
            <a:r>
              <a:rPr b="0" lang="lv-LV" sz="4400" spc="-1" strike="noStrike">
                <a:solidFill>
                  <a:srgbClr val="558ed5"/>
                </a:solidFill>
                <a:latin typeface="Calibri"/>
              </a:rPr>
              <a:t>: </a:t>
            </a:r>
            <a:br>
              <a:rPr sz="4400"/>
            </a:br>
            <a:r>
              <a:rPr b="0" lang="lv-LV" sz="4400" spc="-1" strike="noStrike">
                <a:solidFill>
                  <a:srgbClr val="558ed5"/>
                </a:solidFill>
                <a:latin typeface="Calibri"/>
              </a:rPr>
              <a:t>papildus signāla kabeli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28760" y="21430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-327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iek izmantota elektroenerģijas pieslēguma brīvā jaud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M uzlādes jaudu ierobežo, atkarībā no reālajā laikā pieejamās jaud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niedz iespēju pieejamo jaudu sadalīt starp EM uzlādes pieslēgumi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E6B25-3E14-4756-B016-C7BC09C45CBD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Datuma vietturis 3"/>
          <p:cNvSpPr/>
          <p:nvPr/>
        </p:nvSpPr>
        <p:spPr>
          <a:xfrm>
            <a:off x="457200" y="6356520"/>
            <a:ext cx="77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20.gada 28.septemb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558ed5"/>
                </a:solidFill>
                <a:latin typeface="Calibri"/>
              </a:rPr>
              <a:t>Alternatīvo degvielu attīstības plāns 2017.–2020. gad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ts val="4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3.10.Noteiktas prasības ieviest uzlādes iespēju publiskos stāvlaukumos (stāvvietās) pie jaunām un renovētām ēkām.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ts val="4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ts val="4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eicamās darbīb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ts val="4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zstrādāti nosacījumi, lai Eiropas Savienības struktūrfondu vai citu finansējuma avotu ietvaros īstenotu atbalsta pasākumus.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9A8F7-0C39-4FF8-906D-BF600F418B32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Datuma vietturis 3"/>
          <p:cNvSpPr/>
          <p:nvPr/>
        </p:nvSpPr>
        <p:spPr>
          <a:xfrm>
            <a:off x="457200" y="6356520"/>
            <a:ext cx="77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20.gada 28.septemb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558ed5"/>
                </a:solidFill>
                <a:latin typeface="Calibri"/>
              </a:rPr>
              <a:t>Grozījumi </a:t>
            </a:r>
            <a:br>
              <a:rPr sz="4400"/>
            </a:br>
            <a:r>
              <a:rPr b="0" lang="lv-LV" sz="4400" spc="-1" strike="noStrike">
                <a:solidFill>
                  <a:srgbClr val="558ed5"/>
                </a:solidFill>
                <a:latin typeface="Calibri"/>
              </a:rPr>
              <a:t>Ēku energoefektivitātes likum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785960"/>
            <a:ext cx="822960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00"/>
                </a:solidFill>
                <a:uFillTx/>
                <a:latin typeface="Calibri"/>
              </a:rPr>
              <a:t>Priekšlikumi 3.lasījumam Saeim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4. pants. Ekspluatējamu ēku minimālās energoefektivitātes prasīb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(1) Ekspluatējamu ēku minimālās energoefektivitātes prasības nosaka attiecībā uz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3) </a:t>
            </a: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elektrotransportlīdzekļu uzlādes punktu ierīkošanu.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66A00-72AB-4E8C-B25C-612F3E103EB4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Datuma vietturis 3"/>
          <p:cNvSpPr/>
          <p:nvPr/>
        </p:nvSpPr>
        <p:spPr>
          <a:xfrm>
            <a:off x="457200" y="6356520"/>
            <a:ext cx="77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20.gada 28.septemb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558ed5"/>
                </a:solidFill>
                <a:latin typeface="Calibri"/>
              </a:rPr>
              <a:t>NEKP203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5.1.3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7) tiek atbalstīta elektroinstalācijas izveide daudzdzīvokļu dzīvojamās ēkās konkrētās autostāvvietā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09DBD-9AB9-4C58-A100-595781C669E2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Datuma vietturis 3"/>
          <p:cNvSpPr/>
          <p:nvPr/>
        </p:nvSpPr>
        <p:spPr>
          <a:xfrm>
            <a:off x="457200" y="6356520"/>
            <a:ext cx="77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20.gada 28.septemb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558ed5"/>
                </a:solidFill>
                <a:latin typeface="Calibri"/>
              </a:rPr>
              <a:t>NEKP203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5.2. Veicināt un atbalstīt mazemisiju transportlīdzekļu un bezemisiju transportlīdzekļu iegādi privātpersonām vai komersanti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5.2.1.finansiāls atbalsts ETL vai velo transportlīdzekļa iegāde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tbalsts tiek sniegts līdz 15 000 bezemisiju, mazemisiju transportlīdzekļu iegāde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Datuma vietturis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20.gada 28.septemb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EC741-C412-4EF1-9A14-C891041AFC22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558ed5"/>
                </a:solidFill>
                <a:latin typeface="Calibri"/>
              </a:rPr>
              <a:t>NEKP203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5.2.2. izveidot ALTUM aizdevumu vai garantiju programmu mazemisiju vai bezemisiju automobiļu iegādei privātpersonā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4) ar dabasgāzi (tostarp biometānu) darbināmu transportlīdzekļu skaits 2030.gadā līdz 30 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Datuma vietturis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20.gada 28.septemb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DEA7C-5B4D-4BF1-AF00-4403DC7DCA5E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558ed5"/>
                </a:solidFill>
                <a:latin typeface="Calibri"/>
              </a:rPr>
              <a:t>NEKP203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5.4.Palielināt mazemisiju un bezemisiju, transportlīdzekļu skaitu caur publisko iepirkumu veiktajos pakalpojumos un piegādē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Datuma vietturis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20.gada 28.septemb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22B24-5840-4DD8-9015-EA4C3AA5528A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558ed5"/>
                </a:solidFill>
                <a:latin typeface="Calibri"/>
              </a:rPr>
              <a:t>Elektromobiļu skaita prognoz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Uz 01.07.2020. 854 EM (M1 un N1);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2018.g.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40%, 2019.g.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48%, 2020.g.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27% (6 mēn.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atiksmes ministrija – 6’000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2030.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S Latvenergo – 36’500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2030.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Latvijas NAP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ulles emisiju transportlīdzekļu īpatsvars visu transportlīdzekļu skaitā 2% 2027.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uma vietturis 3"/>
          <p:cNvSpPr/>
          <p:nvPr/>
        </p:nvSpPr>
        <p:spPr>
          <a:xfrm>
            <a:off x="3286080" y="6357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20.gada 28.septemb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BEED6-D48D-469F-9C06-34A322D45B91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558ed5"/>
                </a:solidFill>
                <a:latin typeface="Calibri"/>
              </a:rPr>
              <a:t>NEKP203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5.11.Veicināt maza ātruma transportlīdzekļu infrastruktūras attīstīb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ransportlīdzekļi, kuru maksimālais ātrums ir 45km/h, piemēram, mazas jaudas motorolleri, mazas jaudas motocikli, izņemot lauksaimniecības un mežsaimniecības tehnik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Faktiskās kategorijas: Mopēd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ai arī Kvadrimobiļ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Datuma vietturis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20.gada 28.septemb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08BE0-2387-4302-A5C3-00DA9887C8ED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558ed5"/>
                </a:solidFill>
                <a:latin typeface="Calibri"/>
              </a:rPr>
              <a:t>Jautājumi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99680" y="4571640"/>
            <a:ext cx="3971880" cy="15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Elektromobiļu lietotāju Salidojums Latvijā Bānīša svētk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05.09.202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DE52E-FF4A-4D36-A9DF-A622ECDEB533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Datuma vietturis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20.gada 28.septemb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C:\Users\User\Desktop\Arnis\e 06122019\1 Salidojums Bānīša svētkos\Foto 2020\Publikacijai\P1040018.JPG"/>
          <p:cNvPicPr/>
          <p:nvPr/>
        </p:nvPicPr>
        <p:blipFill>
          <a:blip r:embed="rId1"/>
          <a:stretch/>
        </p:blipFill>
        <p:spPr>
          <a:xfrm>
            <a:off x="285840" y="1000080"/>
            <a:ext cx="4286160" cy="32148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C:\Users\User\Desktop\Arnis\e 06122019\1 Salidojums Bānīša svētkos\Foto 2020\Publikacijai\P1040036.JPG"/>
          <p:cNvPicPr/>
          <p:nvPr/>
        </p:nvPicPr>
        <p:blipFill>
          <a:blip r:embed="rId2"/>
          <a:stretch/>
        </p:blipFill>
        <p:spPr>
          <a:xfrm>
            <a:off x="4643280" y="3714840"/>
            <a:ext cx="3905280" cy="29289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558ed5"/>
                </a:solidFill>
                <a:latin typeface="Calibri"/>
              </a:rPr>
              <a:t>Granti elektrisko transportlīdzekļu iegādei Igaunijā 2020.g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28760" y="1571400"/>
            <a:ext cx="8229600" cy="47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5’000EUR par EM (M1, N1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58920" indent="-28584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rivātpersonām un juridiskajām personām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58920" indent="-28584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&lt;50’000 EUR bez PVN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58920" indent="-28584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4 gadu laikā ir jāveic 80’000 km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58920" indent="-28584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vismaz 80% no veiktā nobraukumu ir jāveic Igaunij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irmā kārta: 1,2 miljoni EUR: 232 EM, 4 h laik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Otrā kārta no oktobra: 400’000 EU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uma vietturis 3"/>
          <p:cNvSpPr/>
          <p:nvPr/>
        </p:nvSpPr>
        <p:spPr>
          <a:xfrm>
            <a:off x="3214800" y="6357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20.gada 28.septemb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FE5D0-AD6E-4BAA-88D3-F53B42F17818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aisnstūris 5"/>
          <p:cNvSpPr/>
          <p:nvPr/>
        </p:nvSpPr>
        <p:spPr>
          <a:xfrm>
            <a:off x="5500800" y="5572080"/>
            <a:ext cx="31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Sagatavoja Kārlis Mendziņ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Uzlādēts.lv galvenais redak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558ed5"/>
                </a:solidFill>
                <a:latin typeface="Calibri"/>
              </a:rPr>
              <a:t>Granti elektrisko transportlīdzekļu iegādei Lietuvā 2020.g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4’000EUR par jaunu transportlīdzekli (M1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2’000EUR par lietotu transportlīdzekl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1’000EUR norakstot veco auto: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uto/riteņa/mopēda iegādei vai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abiedriskajam transporta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ikai privātpersonām. Budžets: 5 miljoni EU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uma vietturis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20.gada 28.septemb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D5D98-6718-42B9-BEBD-2DC3B1550546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aisnstūris 6"/>
          <p:cNvSpPr/>
          <p:nvPr/>
        </p:nvSpPr>
        <p:spPr>
          <a:xfrm>
            <a:off x="4143240" y="55720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Sagatavoja Kārlis Mendziņ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Uzlādēts.lv galvenais redak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558ed5"/>
                </a:solidFill>
                <a:latin typeface="Calibri"/>
              </a:rPr>
              <a:t>Jauno EM praktiskā autonomija – 200 - 300 - 400k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28760" y="149976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4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ilces akumulatoru kapacitāt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olkswagen e-Up! (2014)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8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kWh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olkswagen e-Up!: 36,8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Wh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issan Leaf (2014): 24kWh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issan Leaf: 38kWh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issan Leaf e+: 62kWh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udi e-tron: 95kWh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E49AB-4F09-4D32-B447-EBE653A2A932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Datuma vietturis 3"/>
          <p:cNvSpPr/>
          <p:nvPr/>
        </p:nvSpPr>
        <p:spPr>
          <a:xfrm>
            <a:off x="457200" y="6356520"/>
            <a:ext cx="77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20.gada 28.septemb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558ed5"/>
                </a:solidFill>
                <a:latin typeface="Calibri"/>
              </a:rPr>
              <a:t>EM nodotā elektroenerģija (kWh) </a:t>
            </a:r>
            <a:br>
              <a:rPr sz="4400"/>
            </a:br>
            <a:r>
              <a:rPr b="0" lang="lv-LV" sz="4400" spc="-1" strike="noStrike">
                <a:solidFill>
                  <a:srgbClr val="558ed5"/>
                </a:solidFill>
                <a:latin typeface="Calibri"/>
              </a:rPr>
              <a:t>e-mobi un Elektrum uzlādes tīkl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Datuma vietturis 3"/>
          <p:cNvSpPr/>
          <p:nvPr/>
        </p:nvSpPr>
        <p:spPr>
          <a:xfrm>
            <a:off x="457200" y="6356520"/>
            <a:ext cx="77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20.gada 28.septemb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43ED6-BC58-48FB-953F-209BDE0B8A7F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Satura vietturis 6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558ed5"/>
                </a:solidFill>
                <a:latin typeface="Calibri"/>
              </a:rPr>
              <a:t>AS “Latvenergo” prognoze par uzlādes vietas izvēles secību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2071800"/>
            <a:ext cx="822960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1) </a:t>
            </a: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mājās (dominējoši pirmā)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75-80% elektromobiļu īpašnieku izvēlēsies regulāri veikt elektromobiļa uzlādi mājās, izmantojot 2-11 kW jaudas pieslēgumus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881E4-0839-454B-A6D2-C5411693D3A0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atuma vietturis 3"/>
          <p:cNvSpPr/>
          <p:nvPr/>
        </p:nvSpPr>
        <p:spPr>
          <a:xfrm>
            <a:off x="500040" y="6357960"/>
            <a:ext cx="2043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Datuma vietturis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20.gada 28.septemb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558ed5"/>
                </a:solidFill>
                <a:latin typeface="Calibri"/>
              </a:rPr>
              <a:t>AS “Latvenergo” prognoze par uzlādes vietas izvēles secību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2) darbā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3) ilgākas apstāšanās vietā (vairākas stundas), kur uzlāde neliek mainīt dienas plānojum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CFC6A-691D-4C14-9773-680374F511A7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Datuma vietturis 3"/>
          <p:cNvSpPr/>
          <p:nvPr/>
        </p:nvSpPr>
        <p:spPr>
          <a:xfrm>
            <a:off x="457200" y="6356520"/>
            <a:ext cx="77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20.gada 28.septemb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8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558ed5"/>
                </a:solidFill>
                <a:latin typeface="Calibri"/>
              </a:rPr>
              <a:t>Uzlāde ilgstošas, lietderīgas, apstāšanās vietā: apskate, izklaide, iepirkšanās, maltītes ieturēšana, naktsmīt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ADA5C-160A-4736-B44F-16C04FD38178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C:\Users\User\Desktop\Arnis\e 06122019\PUBLIKACIJAS\2020\4 jauni uzlādes punkti\Uzlādes pieslēgums Lielbornes muižā.jpg"/>
          <p:cNvPicPr/>
          <p:nvPr/>
        </p:nvPicPr>
        <p:blipFill>
          <a:blip r:embed="rId1"/>
          <a:stretch/>
        </p:blipFill>
        <p:spPr>
          <a:xfrm>
            <a:off x="714240" y="3751200"/>
            <a:ext cx="3357720" cy="2517840"/>
          </a:xfrm>
          <a:prstGeom prst="rect">
            <a:avLst/>
          </a:prstGeom>
          <a:ln w="0">
            <a:noFill/>
          </a:ln>
        </p:spPr>
      </p:pic>
      <p:sp>
        <p:nvSpPr>
          <p:cNvPr id="77" name="Taisnstūris 8"/>
          <p:cNvSpPr/>
          <p:nvPr/>
        </p:nvSpPr>
        <p:spPr>
          <a:xfrm>
            <a:off x="4357800" y="4071960"/>
            <a:ext cx="40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Attēlā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uzlādes pieslēgums Lielbornes muiž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iekļauts BIMAB uzturētaj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ne-tīkla uzlādes punktu kartē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atuma vietturis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20.gada 28.septemb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500040" y="2859840"/>
            <a:ext cx="82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Calibri"/>
              </a:rPr>
              <a:t>2020.g.:  Zemgalē  Lauku māja "Caunītes" (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Calibri"/>
              </a:rPr>
              <a:t>Cenu pagasts,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Calibri"/>
              </a:rPr>
              <a:t>Ozolnieku novad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8T11:57:36Z</dcterms:created>
  <dc:creator>Arnis</dc:creator>
  <dc:description/>
  <dc:language>en-US</dc:language>
  <cp:lastModifiedBy>Arnis 15.06.</cp:lastModifiedBy>
  <dcterms:modified xsi:type="dcterms:W3CDTF">2020-09-27T16:56:28Z</dcterms:modified>
  <cp:revision>711</cp:revision>
  <dc:subject/>
  <dc:title>Slide 1</dc:title>
</cp:coreProperties>
</file>